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D53-DA6C-4F2C-B1C1-DBD2D4DE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310-AF3C-436D-A692-71153E8D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DFF-CE9F-4D17-ABEF-1A2364A7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958-9CB3-48DB-965C-7FC30379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682C-8881-46BF-B7BF-9FD08952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FA17-CDE5-4FA6-96C8-7637C0CB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4FF1-3994-44DC-885B-53C5393E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FDAD-4FEF-4303-825A-ED7EF4D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1C50-8414-4D0E-A088-605E71EB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C72C-305A-4244-A6D8-7D0EAF06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CFC3-19D7-409B-9B1D-4877300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212-8809-4431-813A-D599E29A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D4D3-EBCE-4B28-BC9B-CAB0EB9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D8A6-0802-4F42-95FF-3145C75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C679-4914-41D2-9CF8-15C1765A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17BF-B2BA-4FB5-AD96-ED8B5EDC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B523-29C3-4D4F-99FE-85A52984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32D-1760-4AE2-A945-F1B6194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C3E-9DD2-470D-8CB9-952D4644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108-021C-430D-A853-903871CF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801-54A3-4C8B-83F6-8F4E3D73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04D-4C9E-4E6F-A7CE-0E8B84A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5C1-C0F2-4177-B284-584FB411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905-59B2-475B-8981-7614988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819e8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F9CF-26FC-42E2-95B8-0081EF9A21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9F1-2C6B-49D5-91B3-B8DA621B992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images.google.ca/imgres?imgurl=http://www.historyplace.com/specials/calendar/docs-pix/otto-bismarck.jpg&amp;imgrefurl=http://www.historyplace.com/specials/calendar/september.htm&amp;h=402&amp;w=364&amp;sz=56&amp;tbnid=-Kftq-D61J0J:&amp;tbnh=120&amp;tbnw=108&amp;hl=en&amp;start=3&amp;prev=/images%3Fq%3DBismarck%26svnum%3D10%26hl%3Den%26lr%3D%26sa%3DN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n.wikipedia.org/wiki/Image:Napoleon3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n.wikipedia.org/wiki/Image:Uk_flag_large.png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Changes in the Balance of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8-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lorence Nightingal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nding the modern nursing profess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38240" y="1981080"/>
            <a:ext cx="2675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Italian Unification (1859-70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Metternich once stated that the word Italy was "purely a geographic expression,” bu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Crimean War and its settlement showed the weakness of Austria; Black Sea is neutral territory (Treaty of Pari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Cavour lead resistance against Austrian control in northern Ita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Risorgimento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“resurgence” of Italian nationalis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8880" y="5715000"/>
            <a:ext cx="1476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Unification of Italy: Early Peri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Secret societies: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Carbonari,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(coal burners)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then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Young Ital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 est. by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Giuseppe Mazzini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 (early 19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  <a:ea typeface="굴림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 centur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Wanted to make Italy a republic (not the same as Cavour; he wanted a constitutional monarch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Formed a republic in Rome, but Napoleon III ended that by 1849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206388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0" y="3657600"/>
            <a:ext cx="174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805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The Drive to Italian Unif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rimean W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amillo di Cavou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 (prime minister of Sardinia) 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Giuseppe Garibaldi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 (southern Italian) spear head the dri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The practice of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Realpolitik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by Cavour resulted in the unification of northern Italian states except Venetia (Austria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1341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alpoliti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ing a nation’s goa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constrained by princip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ain time to become stro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war with major pow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Garibaldi lead the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Red Shir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 in the sout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He took over the Kingdom of Two Sicilies and turned it over to Piedmont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Plebiscites were held; overwhelming support for unif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Victor Emmanuel II is k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99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638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Venetia goes to Italy after the war between Prussia and Austria in 1866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In 1870 France and Prussia fight and French troops are removed from Rome; Rome becomes part of Italy (1870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It took till 1929 for the papacy to recognize the Italian state (Lateran Treat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Vatican is a sovereign state within a st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9080" y="0"/>
            <a:ext cx="676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lance of Po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fication of Italy and Germany end the balance of power (Congress of Vienna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s the situation for World War 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for a Unified Ita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rth and South Italia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ublican versus Constitutional monarchist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tholic Church’s posi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still under Austrian rule create tension, i.e. Trentino, Trieste, and Dalmat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still under French rule, i.e. Nice and Sav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The Unification of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The Ascendancy of Bismar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38080" y="533520"/>
          <a:ext cx="3575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33520"/>
                    <a:ext cx="3575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800600" y="533520"/>
          <a:ext cx="3530520" cy="589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33520"/>
                    <a:ext cx="353052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German Unification (1866-7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Was called the Confederation of the Rhine during the Napoleonic e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Made up of 39 states including Austria and Pruss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Hegemonic competition between Austria (Greater Germany) and Prussia (Lesser Germany)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Frankfurt Assembly: attempt to unite Germ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Otto von Bismar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Jun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Prussi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Critic of Aust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Ambassador to Russia, then Chancello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Realpoliti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Blood and ir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Favored by William 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37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2057400"/>
            <a:ext cx="3908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s to German Unif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 with Denmark, 1864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leswig-Holstein (administered by Prussia and Austria respectivel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ussia allied with Aust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 with Austria, 1866 (Seven Weeks War)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hind the scenes negotiations with Fr. Russ. and Italy to keep them ou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st. two states: North German Confederation/South German Confedera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 with France, 1870 (Franco Prussian War)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s telegram and conflict over ascension to Spanish thron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ifies both Germany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rth German Confeder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25640" y="1981080"/>
            <a:ext cx="486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Crimean War (1854-56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Conflict over protection of Christians in Holy Land controlled by Turkey (Ottoman Empire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France: Napoleon III Catholic, 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Russia: Tsar Nicholas I Orthodox Christi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Went to F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428480" cy="2095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Napoleon III of Franc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4648320"/>
            <a:ext cx="1346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46480" y="605808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hurch of the Nativity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11160" y="62866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urch of the Holy Sepulchre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Sides in the W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057400" cy="137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819520"/>
            <a:ext cx="1981080" cy="99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04920" y="3962520"/>
            <a:ext cx="1904760" cy="1269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80880" y="5334120"/>
            <a:ext cx="1828800" cy="120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8360" y="3276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  <a:ea typeface="굴림"/>
              </a:rPr>
              <a:t>Vers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5638680" y="2666880"/>
            <a:ext cx="3133800" cy="208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62240" y="1843200"/>
            <a:ext cx="416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ictor Emmuel II (King of Sardinia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ount Cavour (his prime minister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38188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530280"/>
            <a:ext cx="716292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Pretext for Russian aggression; weakened Ottoman Empire (vacuum creat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Russian real motive: control of the Dardanelles and Bosporus Straits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(hegemony)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0:26:00Z</dcterms:created>
  <dc:creator>Generic</dc:creator>
  <dc:description/>
  <dc:language>en-US</dc:language>
  <cp:lastModifiedBy>plouffeh</cp:lastModifiedBy>
  <dcterms:modified xsi:type="dcterms:W3CDTF">2007-10-29T18:07:41Z</dcterms:modified>
  <cp:revision>10</cp:revision>
  <dc:subject/>
  <dc:title>Changes in the Balance of Power</dc:title>
</cp:coreProperties>
</file>